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7F7E-5E87-4AAC-B004-A46C3A9DC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60D8-AB06-427D-B848-8B153CDD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337-7750-41F6-8DE9-D8EBE230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201-3443-4EF0-9353-9FE236D3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D69-81CE-4C68-B92C-4B096B5C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DD2-36C5-4ACE-AF0F-ED80B3E3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3197-7FB8-48E9-87BA-0728ED91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9B56-BEAF-42E1-BE37-F7441A37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4F6A-4217-493B-8D00-1CB93956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C358-B9D5-4F32-8801-4A274D80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1C1-19D7-41A4-93A4-93A0B9F4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337A-96D3-4377-B492-C447C738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A2B-1EBA-4124-B032-424B542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5E6-CAA7-464B-9F70-DEE986EE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3881-FA2B-4F99-9F24-F1886D5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F479-25A4-497E-9072-787AF59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9BC9-5B93-453C-95E6-4E8CD209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5DA1-E729-4C4D-9990-C743844C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0BF3-0779-4CC5-86E3-E23A0FE6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4BC3-4379-4E24-9CEB-A8087A50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FB74-5D7F-4AAB-B54D-78B507BE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DC97-03CE-419C-A319-40626222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8769-8137-4BAE-B569-97FDBC6F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EED3-6788-4131-A898-227F817C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CC8-F059-4382-BF55-87C5BC36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56A3-99BF-418F-9648-6F25532D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BA25-0F1D-4641-91C0-A4B37DC3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8069-4AE7-4866-AC5D-E734B95E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0BEC-4CC1-4F6F-8EC9-0CF34C6F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3285-3566-4A31-8FF7-54186D70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D2E8-29DC-4423-9BEC-8C764979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AAFD-BEC3-4CF2-ADE3-2CCA91DE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7465-15B8-41C3-8F1E-27F49DDB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B7229-92E6-40FA-B690-3C6B5364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4FDEC-A049-4849-A433-B7ABEF23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B03-A4C0-4554-A9B2-7BE9255D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5F53-022F-4F3A-B65A-38315EC8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144F-0D2D-4CE3-B5AF-FE556EF3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1616-8107-4233-9F37-F51EA676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46BE-A66B-49F3-8505-8B7E6DB2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1C1E-D1BE-489A-AB2D-0A5CC35F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E1ED-CC36-4157-9351-05CE4AE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0F94-1D8F-43B1-AA2A-527068E3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55F7D-E956-4B88-9F33-2FA11D00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33BB-EF0A-4EB2-9E0C-2F5AB1CF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53C99-397A-46E0-80AF-8E7EC814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A48-E361-4A74-9AC1-B812BB9F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62CFB-B21F-4E1D-9B6E-12F8E4B7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45B9F-A093-45CA-AC53-CEAFD8CA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0932-D236-40E4-922A-E4BE7B20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10E69-C077-48EB-9C00-C08C3C61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D009-9FAB-433B-B781-9D1F2081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DFF3F-B5A3-414E-8836-29182DB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028D5-8A89-42BE-8D2A-1661F2CD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2DD7-2ABD-4859-A1DD-4123EC9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5FB1-E03A-479F-8CFB-ED9FD97B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B1653-72E1-4C5D-B67D-6DA36902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EAE-DC39-4101-B1C4-C2FB7CED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D896B-3974-4F01-B2DA-F8781EC0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4F5-9D59-486D-82FE-C7E82FB3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79A-D2BA-4A18-9817-D73D3ED0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98F-3FC6-4C92-96E8-EE54EE6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0DBA-0E26-4009-A81F-C3D0C43B02B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DA0E-25C4-4F53-BF36-9BA1FDA3685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62A3-009E-4BDB-B127-F3176D3D073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FF70-B60E-4143-9328-58A2EB98C69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C790-9DDA-4D8F-823B-4DA17669B5B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5.xml"/><Relationship Id="rId3" Type="http://schemas.openxmlformats.org/officeDocument/2006/relationships/slide" Target="slide33.xml"/><Relationship Id="rId4" Type="http://schemas.openxmlformats.org/officeDocument/2006/relationships/slide" Target="slide41.xml"/><Relationship Id="rId5" Type="http://schemas.openxmlformats.org/officeDocument/2006/relationships/slide" Target="slide18.xml"/><Relationship Id="rId6" Type="http://schemas.openxmlformats.org/officeDocument/2006/relationships/slide" Target="slide26.xml"/><Relationship Id="rId7" Type="http://schemas.openxmlformats.org/officeDocument/2006/relationships/slide" Target="slide34.xml"/><Relationship Id="rId8" Type="http://schemas.openxmlformats.org/officeDocument/2006/relationships/slide" Target="slide42.xml"/><Relationship Id="rId9" Type="http://schemas.openxmlformats.org/officeDocument/2006/relationships/slide" Target="slide19.xml"/><Relationship Id="rId10" Type="http://schemas.openxmlformats.org/officeDocument/2006/relationships/slide" Target="slide27.xml"/><Relationship Id="rId11" Type="http://schemas.openxmlformats.org/officeDocument/2006/relationships/slide" Target="slide35.xml"/><Relationship Id="rId12" Type="http://schemas.openxmlformats.org/officeDocument/2006/relationships/slide" Target="slide43.xml"/><Relationship Id="rId13" Type="http://schemas.openxmlformats.org/officeDocument/2006/relationships/slide" Target="slide20.xml"/><Relationship Id="rId14" Type="http://schemas.openxmlformats.org/officeDocument/2006/relationships/slide" Target="slide28.xml"/><Relationship Id="rId15" Type="http://schemas.openxmlformats.org/officeDocument/2006/relationships/slide" Target="slide36.xml"/><Relationship Id="rId16" Type="http://schemas.openxmlformats.org/officeDocument/2006/relationships/slide" Target="slide44.xml"/><Relationship Id="rId17" Type="http://schemas.openxmlformats.org/officeDocument/2006/relationships/slide" Target="slide45.xml"/><Relationship Id="rId18" Type="http://schemas.openxmlformats.org/officeDocument/2006/relationships/slide" Target="slide29.xml"/><Relationship Id="rId19" Type="http://schemas.openxmlformats.org/officeDocument/2006/relationships/slide" Target="slide37.xml"/><Relationship Id="rId20" Type="http://schemas.openxmlformats.org/officeDocument/2006/relationships/slide" Target="slide45.xm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how.com/about_4743574_different-kinds-computer-viruses.html" TargetMode="External"/><Relationship Id="rId3" Type="http://schemas.openxmlformats.org/officeDocument/2006/relationships/hyperlink" Target="http://www.microsoft.com/security/antivirus/whatis.aspx" TargetMode="External"/><Relationship Id="rId4" Type="http://schemas.openxmlformats.org/officeDocument/2006/relationships/hyperlink" Target="http://www.newton.dep.anl.gov/teachers/compvir.ht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20.png"/><Relationship Id="rId4" Type="http://schemas.openxmlformats.org/officeDocument/2006/relationships/image" Target="../media/image30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answers.com/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8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webmd.com/mental-health/features/video-game-addiction-no-fun" TargetMode="External"/><Relationship Id="rId3" Type="http://schemas.openxmlformats.org/officeDocument/2006/relationships/hyperlink" Target="http://www.ocregister.com/news/game-208290-wow-addiction.html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60840" cy="21463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Romans: Destiny Tucker, Cire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Berry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, Emmett Mobley, Imani Hawkins, Armani Cart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560"/>
            <a:ext cx="723888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ople who are addicted to games as a child don’t develop socially and never learn to play a s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st Game addicts are males under 3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Action Button: Forward or Next 4">
            <a:hlinkClick r:id="" action="ppaction://hlinkshowjump?jump=nextslide"/>
          </p:cNvPr>
          <p:cNvSpPr/>
          <p:nvPr/>
        </p:nvSpPr>
        <p:spPr>
          <a:xfrm>
            <a:off x="6629400" y="57913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3794"/>
                </a:moveTo>
                <a:lnTo>
                  <a:pt x="22434" y="10800"/>
                </a:lnTo>
                <a:lnTo>
                  <a:pt x="8421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warning signs of game addiction ar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creasing amounts of time spent on gam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tantly think about gaming while doing something el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ing games to escape real life probl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ealing gam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eling irritable when trying to cut down on time spent gam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562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4430" y="3794"/>
                </a:moveTo>
                <a:lnTo>
                  <a:pt x="18443" y="10800"/>
                </a:lnTo>
                <a:lnTo>
                  <a:pt x="443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0" y="37800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5228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inary numbers go by the power of 2. And everything in the computers are converted to 0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, because there is only two states an electrical circuit can be in. it addresses the way the computer count different things tha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on i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2578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4475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ind the total of the true numbers for the binary i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easier to use the char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8   64   32   16   8   4   2   1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1     0     0    1    1   1   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cimal number (true number) converted to Binary Numbers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9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5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110011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343400" y="2209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 together the columns where the 0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re to get deci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410080" y="464832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tract the largest binary number into the decim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886200" y="28954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5335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11430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16002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2133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25146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29718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7"/>
          <p:cNvSpPr/>
          <p:nvPr/>
        </p:nvSpPr>
        <p:spPr>
          <a:xfrm>
            <a:off x="3276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3581280" y="30481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9"/>
          <p:cNvSpPr/>
          <p:nvPr/>
        </p:nvSpPr>
        <p:spPr>
          <a:xfrm>
            <a:off x="4876920" y="4800600"/>
            <a:ext cx="53316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15">
            <a:hlinkClick r:id="" action="ppaction://hlinkshowjump?jump=nextslide"/>
          </p:cNvPr>
          <p:cNvSpPr/>
          <p:nvPr/>
        </p:nvSpPr>
        <p:spPr>
          <a:xfrm>
            <a:off x="693432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;Byt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byte is a unit of data that is eight binary digits long. A byte it’s a unit most computers use to represent  a letter, number, or symbo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76320"/>
          <a:ext cx="8229600" cy="6781680"/>
        </p:xfrm>
        <a:graphic>
          <a:graphicData uri="http://schemas.openxmlformats.org/drawingml/2006/table">
            <a:tbl>
              <a:tblPr/>
              <a:tblGrid>
                <a:gridCol w="1711440"/>
                <a:gridCol w="1630080"/>
                <a:gridCol w="1629000"/>
                <a:gridCol w="1630440"/>
                <a:gridCol w="1628640"/>
              </a:tblGrid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ru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ide the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Game Ad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nary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3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4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5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6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7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8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9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0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1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2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3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4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5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6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7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8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9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0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530280" y="-237960"/>
            <a:ext cx="8211960" cy="1487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2193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What is a virus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286000" y="259092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is a computer program that can multiply itself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 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and infect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Is a computer program  that hacks your computer and then  fixes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Is a computer program  that creates a lot of pop up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Is a computer program that takes away all our batter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12320" cy="14508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ich one is a form of a viru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33526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rojan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rojan 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roja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rojan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____ we ar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wea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Vulnerabl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Egotistica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powerfu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998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virus is a computer program that can multiply itsel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fect a comput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is commonly used to refer to other types of malware, adware and spyware progra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can spread from one computer to another in some type of code when its host is taken to the target computer; it could happen when a user sent it over a network or the Internet, or carried on a floppy disk, CD, DVD, or USB driv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 vulnerable we 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Action Button: Forward or Next 3">
            <a:hlinkClick r:id="" action="ppaction://hlinkshowjump?jump=nextslide"/>
          </p:cNvPr>
          <p:cNvSpPr/>
          <p:nvPr/>
        </p:nvSpPr>
        <p:spPr>
          <a:xfrm>
            <a:off x="6553080" y="594360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way to protect yourself from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void unknown internet websi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Never double click a email attach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Use virus prote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5" action="ppaction://hlinksldjump"/>
              </a:rPr>
              <a:t>Avoid random progra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609480" y="47304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a reason why people create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people like devas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Bragging righ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for the fun of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Test different computers weaknes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Title 3" descr=""/>
          <p:cNvPicPr/>
          <p:nvPr/>
        </p:nvPicPr>
        <p:blipFill>
          <a:blip r:embed="rId5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4" descr=""/>
          <p:cNvPicPr/>
          <p:nvPr/>
        </p:nvPicPr>
        <p:blipFill>
          <a:blip r:embed="rId1"/>
          <a:stretch/>
        </p:blipFill>
        <p:spPr>
          <a:xfrm>
            <a:off x="450720" y="-615960"/>
            <a:ext cx="8242560" cy="2146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C:\Users\lundylog\AppData\Local\Microsoft\Windows\Temporary Internet Files\Content.IE5\BN3GBYYM\MC900433820[1].png"/>
          <p:cNvPicPr/>
          <p:nvPr/>
        </p:nvPicPr>
        <p:blipFill>
          <a:blip r:embed="rId2"/>
          <a:stretch/>
        </p:blipFill>
        <p:spPr>
          <a:xfrm>
            <a:off x="1447920" y="1066680"/>
            <a:ext cx="5790960" cy="5181840"/>
          </a:xfrm>
          <a:prstGeom prst="rect">
            <a:avLst/>
          </a:prstGeom>
          <a:ln w="0">
            <a:noFill/>
          </a:ln>
        </p:spPr>
      </p:pic>
      <p:sp>
        <p:nvSpPr>
          <p:cNvPr id="299" name="Action Button: Home 4">
            <a:hlinkClick r:id="rId3" action="ppaction://hlinksldjump"/>
          </p:cNvPr>
          <p:cNvSpPr/>
          <p:nvPr/>
        </p:nvSpPr>
        <p:spPr>
          <a:xfrm>
            <a:off x="6629400" y="56386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12824" y="3837"/>
                </a:moveTo>
                <a:lnTo>
                  <a:pt x="15400" y="6448"/>
                </a:ln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lnTo>
                  <a:pt x="19787" y="10800"/>
                </a:lnTo>
                <a:lnTo>
                  <a:pt x="18133" y="10800"/>
                </a:lnTo>
                <a:lnTo>
                  <a:pt x="18133" y="17989"/>
                </a:lnTo>
                <a:lnTo>
                  <a:pt x="7515" y="17989"/>
                </a:lnTo>
                <a:lnTo>
                  <a:pt x="7515" y="10800"/>
                </a:lnTo>
                <a:lnTo>
                  <a:pt x="5861" y="10800"/>
                </a:lnTo>
                <a:close/>
              </a:path>
              <a:path fill="darkenLess" w="25648" h="21600">
                <a:moveTo>
                  <a:pt x="15400" y="6448"/>
                </a:move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close/>
              </a:path>
              <a:path fill="darkenLess" w="25648" h="21600">
                <a:moveTo>
                  <a:pt x="11902" y="14299"/>
                </a:moveTo>
                <a:lnTo>
                  <a:pt x="13747" y="14299"/>
                </a:lnTo>
                <a:lnTo>
                  <a:pt x="13747" y="17989"/>
                </a:lnTo>
                <a:lnTo>
                  <a:pt x="18133" y="17989"/>
                </a:lnTo>
                <a:lnTo>
                  <a:pt x="18133" y="10800"/>
                </a:lnTo>
                <a:lnTo>
                  <a:pt x="7515" y="10800"/>
                </a:lnTo>
                <a:lnTo>
                  <a:pt x="7515" y="17989"/>
                </a:lnTo>
                <a:lnTo>
                  <a:pt x="11902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5" descr=""/>
          <p:cNvPicPr/>
          <p:nvPr/>
        </p:nvPicPr>
        <p:blipFill>
          <a:blip r:embed="rId1"/>
          <a:stretch/>
        </p:blipFill>
        <p:spPr>
          <a:xfrm>
            <a:off x="298440" y="-920880"/>
            <a:ext cx="8242200" cy="2835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lundylog\AppData\Local\Microsoft\Windows\Temporary Internet Files\Content.IE5\CINLLN2E\MC900433818[1].png"/>
          <p:cNvPicPr/>
          <p:nvPr/>
        </p:nvPicPr>
        <p:blipFill>
          <a:blip r:embed="rId2"/>
          <a:stretch/>
        </p:blipFill>
        <p:spPr>
          <a:xfrm>
            <a:off x="36576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C:\Users\lundylog\AppData\Local\Microsoft\Windows\Temporary Internet Files\Content.IE5\CINLLN2E\MC900433818[1].png"/>
          <p:cNvPicPr/>
          <p:nvPr/>
        </p:nvPicPr>
        <p:blipFill>
          <a:blip r:embed="rId3"/>
          <a:stretch/>
        </p:blipFill>
        <p:spPr>
          <a:xfrm>
            <a:off x="1828800" y="182880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0" y="4876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Back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ehow.com/about_4743574_different-kinds-computer-viruses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microsoft.com/security/antivirus/whatis.aspx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http://www.newton.dep.anl.gov/teachers/compvir.ht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35200" y="225360"/>
            <a:ext cx="8216640" cy="209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95280" y="1752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does CPU stand for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609480" y="3657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Control Program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Contro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Central Processing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D) Computer U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755640" y="49320"/>
            <a:ext cx="8217000" cy="20905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asic function of the Video Car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066680" y="35812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Stores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Displays 2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Displays 2d and 3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-79200" y="225360"/>
            <a:ext cx="7711920" cy="11826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at is the professional name for the “Heart of the Computer”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3526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Motherboar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Hard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Optical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365760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Steve Jo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Z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Bill Gat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914400" y="205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o created the first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7058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80520" y="342864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Optical drive uses light to receive information and a Hard drive stores informa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Optical Drive stores information and a Hard drive uses light to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They both use light to receive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2120" y="21337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and Optical drive and a Hard dr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 viruses- it travels as a attachment to email messages, and copies itself by automatically sending itself to random people in your conte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 horses- it’s a computer program which claims to do something but its really just damaging your computer secretl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m – is a small piece of software that uses computer networks and security holes to replicate itself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4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8137440" cy="1536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Documents and Settings\student\Local Settings\Temporary Internet Files\Content.IE5\9EES06XC\MC90043382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28800" y="19051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5">
            <a:hlinkClick r:id="rId5" action="ppaction://hlinksldjump"/>
          </p:cNvPr>
          <p:cNvSpPr/>
          <p:nvPr/>
        </p:nvSpPr>
        <p:spPr>
          <a:xfrm>
            <a:off x="6095880" y="4800600"/>
            <a:ext cx="1905120" cy="1676520"/>
          </a:xfrm>
          <a:custGeom>
            <a:avLst/>
            <a:gdLst>
              <a:gd name="textAreaLeft" fmla="*/ 108360 w 1905120"/>
              <a:gd name="textAreaRight" fmla="*/ 1796760 w 19051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5" h="21600">
                <a:moveTo>
                  <a:pt x="0" y="0"/>
                </a:moveTo>
                <a:lnTo>
                  <a:pt x="24545" y="0"/>
                </a:lnTo>
                <a:lnTo>
                  <a:pt x="24545" y="21600"/>
                </a:lnTo>
                <a:lnTo>
                  <a:pt x="0" y="21600"/>
                </a:lnTo>
                <a:close/>
              </a:path>
              <a:path fill="lightenLess" w="24545" h="21600">
                <a:moveTo>
                  <a:pt x="0" y="0"/>
                </a:moveTo>
                <a:lnTo>
                  <a:pt x="24545" y="0"/>
                </a:lnTo>
                <a:lnTo>
                  <a:pt x="23145" y="1400"/>
                </a:lnTo>
                <a:lnTo>
                  <a:pt x="1400" y="1400"/>
                </a:lnTo>
                <a:close/>
              </a:path>
              <a:path fill="darken" w="24545" h="21600">
                <a:moveTo>
                  <a:pt x="24545" y="0"/>
                </a:moveTo>
                <a:lnTo>
                  <a:pt x="24545" y="21600"/>
                </a:lnTo>
                <a:lnTo>
                  <a:pt x="23145" y="20200"/>
                </a:lnTo>
                <a:lnTo>
                  <a:pt x="23145" y="1400"/>
                </a:lnTo>
                <a:close/>
              </a:path>
              <a:path fill="darkenLess" w="24545" h="21600">
                <a:moveTo>
                  <a:pt x="24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5" y="20200"/>
                </a:lnTo>
                <a:close/>
              </a:path>
              <a:path fill="lighten" w="24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5" h="21600">
                <a:moveTo>
                  <a:pt x="12272" y="3837"/>
                </a:moveTo>
                <a:lnTo>
                  <a:pt x="14849" y="6448"/>
                </a:ln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lnTo>
                  <a:pt x="19235" y="10800"/>
                </a:lnTo>
                <a:lnTo>
                  <a:pt x="17582" y="10800"/>
                </a:lnTo>
                <a:lnTo>
                  <a:pt x="17582" y="17989"/>
                </a:lnTo>
                <a:lnTo>
                  <a:pt x="6963" y="17989"/>
                </a:lnTo>
                <a:lnTo>
                  <a:pt x="6963" y="10800"/>
                </a:lnTo>
                <a:lnTo>
                  <a:pt x="5309" y="10800"/>
                </a:lnTo>
                <a:close/>
              </a:path>
              <a:path fill="darkenLess" w="24545" h="21600">
                <a:moveTo>
                  <a:pt x="14849" y="6448"/>
                </a:move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close/>
              </a:path>
              <a:path fill="darkenLess" w="24545" h="21600">
                <a:moveTo>
                  <a:pt x="11350" y="14299"/>
                </a:moveTo>
                <a:lnTo>
                  <a:pt x="13195" y="14299"/>
                </a:lnTo>
                <a:lnTo>
                  <a:pt x="13195" y="17989"/>
                </a:lnTo>
                <a:lnTo>
                  <a:pt x="17582" y="17989"/>
                </a:lnTo>
                <a:lnTo>
                  <a:pt x="17582" y="10800"/>
                </a:lnTo>
                <a:lnTo>
                  <a:pt x="6963" y="10800"/>
                </a:lnTo>
                <a:lnTo>
                  <a:pt x="6963" y="17989"/>
                </a:lnTo>
                <a:lnTo>
                  <a:pt x="11350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5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242200" cy="2828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Documents and Settings\student\Local Settings\Temporary Internet Files\Content.IE5\0U764WG3\MC900433818[1].png"/>
          <p:cNvPicPr/>
          <p:nvPr/>
        </p:nvPicPr>
        <p:blipFill>
          <a:blip r:embed="rId2"/>
          <a:stretch/>
        </p:blipFill>
        <p:spPr>
          <a:xfrm>
            <a:off x="236232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685800" y="5562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ack to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google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Inventors.about.co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www.answers.co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ow old are most addic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971800" y="3124080"/>
            <a:ext cx="5105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30 and 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15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10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10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y do people get addicted to games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2743200" y="33336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like to play video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Virtual Life becomes more appealing than re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are dating someone in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It is free and they feel that they need to take advantage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happens if someone is addicted to games as a chil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743200" y="29718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grow up to live a norm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hey don’t develop socially and never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don’t learn to play a sport, but they develop so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hey don’t develop socially, but they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does MMORPG stand for and what does WOW stand fo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Magically Multiplayer Offline Role-Playing God and World of Warmon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Magnificently Magically Online Role-Playing Game and Warcraft of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Massively Multiplayer Online Role-Playing Game and World of Warcr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Massively Multiplayer Online Role-Playing Game and World of Wa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is a warning sign of game addictio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Playing games when they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Only thinking about gaming when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Feeling great when cutting down on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Spending increasing amounts of time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-6480" y="-189000"/>
            <a:ext cx="8242560" cy="2584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Documents and Settings\student\Local Settings\Temporary Internet Files\Content.IE5\FM0DGQCO\MC900433820[1].png"/>
          <p:cNvPicPr/>
          <p:nvPr/>
        </p:nvPicPr>
        <p:blipFill>
          <a:blip r:embed="rId2"/>
          <a:stretch/>
        </p:blipFill>
        <p:spPr>
          <a:xfrm>
            <a:off x="15238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347" name="Action Button: Home 4">
            <a:hlinkClick r:id="rId3" action="ppaction://hlinksldjump"/>
          </p:cNvPr>
          <p:cNvSpPr/>
          <p:nvPr/>
        </p:nvSpPr>
        <p:spPr>
          <a:xfrm>
            <a:off x="6172200" y="4724280"/>
            <a:ext cx="1981080" cy="2133720"/>
          </a:xfrm>
          <a:custGeom>
            <a:avLst/>
            <a:gdLst>
              <a:gd name="textAreaLeft" fmla="*/ 128160 w 1981080"/>
              <a:gd name="textAreaRight" fmla="*/ 1852920 w 1981080"/>
              <a:gd name="textAreaTop" fmla="*/ 128160 h 2133720"/>
              <a:gd name="textAreaBottom" fmla="*/ 2005560 h 213372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5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2481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0" y="556272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Go Back and inform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0" name="Picture 5" descr="C:\Documents and Settings\student\Local Settings\Temporary Internet Files\Content.IE5\8323Y0WE\MC900433818[1].png"/>
          <p:cNvPicPr/>
          <p:nvPr/>
        </p:nvPicPr>
        <p:blipFill>
          <a:blip r:embed="rId3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74720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void programs and unknown sources( if don’t know what the program is don’t mess with it, just close out of i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virus protection such as anti virus software and virus sca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ver double click on email attachments( hit it once and wait, if nothing shows up, then hit again , if nothing, then assume your computer is acting slow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Action Button: Forward or Next 3">
            <a:hlinkClick r:id="" action="ppaction://hlinkshowjump?jump=nextslide"/>
          </p:cNvPr>
          <p:cNvSpPr/>
          <p:nvPr/>
        </p:nvSpPr>
        <p:spPr>
          <a:xfrm>
            <a:off x="6477120" y="60199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3794"/>
                </a:moveTo>
                <a:lnTo>
                  <a:pt x="24679" y="10800"/>
                </a:lnTo>
                <a:lnTo>
                  <a:pt x="106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webmd.com/mental-health/features/video-game-addiction-no-f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ocregister.com/news/game-208290-wow-addiction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205840" cy="1481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power does binary numbers go b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447920" y="2971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</a:t>
            </a:r>
            <a:r>
              <a:rPr b="0" lang="en-US" sz="2800" spc="-1" strike="noStrike">
                <a:solidFill>
                  <a:srgbClr val="e3afd8"/>
                </a:solidFill>
                <a:latin typeface="Arial"/>
              </a:rPr>
              <a:t>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a byt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523880" y="3352680"/>
            <a:ext cx="6705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seven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some computers use to represent a letter, number, or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nine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8278920" cy="14637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10110100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3880" y="3352680"/>
            <a:ext cx="6705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00001111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inary number for 227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4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7175520" cy="2116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C:\Documents and Settings\student\Local Settings\Temporary Internet Files\Content.IE5\PM48CWES\MC900433820[1].png"/>
          <p:cNvPicPr/>
          <p:nvPr/>
        </p:nvPicPr>
        <p:blipFill>
          <a:blip r:embed="rId2"/>
          <a:stretch/>
        </p:blipFill>
        <p:spPr>
          <a:xfrm>
            <a:off x="2590920" y="24382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370" name="Action Button: Home 5"/>
          <p:cNvSpPr/>
          <p:nvPr/>
        </p:nvSpPr>
        <p:spPr>
          <a:xfrm>
            <a:off x="6477120" y="5181480"/>
            <a:ext cx="1676160" cy="1676520"/>
          </a:xfrm>
          <a:custGeom>
            <a:avLst/>
            <a:gdLst>
              <a:gd name="textAreaLeft" fmla="*/ 108360 w 1676160"/>
              <a:gd name="textAreaRight" fmla="*/ 1567800 w 16761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3839"/>
                </a:moveTo>
                <a:lnTo>
                  <a:pt x="13376" y="6450"/>
                </a:ln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lnTo>
                  <a:pt x="17763" y="10802"/>
                </a:lnTo>
                <a:lnTo>
                  <a:pt x="16109" y="10802"/>
                </a:lnTo>
                <a:lnTo>
                  <a:pt x="16109" y="17992"/>
                </a:lnTo>
                <a:lnTo>
                  <a:pt x="5491" y="17992"/>
                </a:lnTo>
                <a:lnTo>
                  <a:pt x="5491" y="10802"/>
                </a:lnTo>
                <a:lnTo>
                  <a:pt x="3837" y="10802"/>
                </a:lnTo>
                <a:close/>
              </a:path>
              <a:path fill="darkenLess" w="21600" h="21605">
                <a:moveTo>
                  <a:pt x="13376" y="6450"/>
                </a:move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close/>
              </a:path>
              <a:path fill="darkenLess" w="21600" h="21605">
                <a:moveTo>
                  <a:pt x="9877" y="14301"/>
                </a:moveTo>
                <a:lnTo>
                  <a:pt x="11723" y="14301"/>
                </a:lnTo>
                <a:lnTo>
                  <a:pt x="11723" y="17992"/>
                </a:lnTo>
                <a:lnTo>
                  <a:pt x="16109" y="17992"/>
                </a:lnTo>
                <a:lnTo>
                  <a:pt x="16109" y="10802"/>
                </a:lnTo>
                <a:lnTo>
                  <a:pt x="5491" y="10802"/>
                </a:lnTo>
                <a:lnTo>
                  <a:pt x="5491" y="17992"/>
                </a:lnTo>
                <a:lnTo>
                  <a:pt x="9877" y="17992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5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7559640" cy="2481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Documents and Settings\student\Local Settings\Temporary Internet Files\Content.IE5\PM48CWES\MC900433818[1].png"/>
          <p:cNvPicPr/>
          <p:nvPr/>
        </p:nvPicPr>
        <p:blipFill>
          <a:blip r:embed="rId2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0" y="578016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tp://searchstorage.techtarget.com/sDefinition/0,,sid5_gci211721,00.html  (byt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SS;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mputers and the Internet- Unit 2, Binary Numbers Information, Binary Number System Made Easy, Binary Numbers Cha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computer was created in 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Mother Board is basically called, “ The heart of the computer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AM means random access mem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ll Gates created Microso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Action Button: Forward or Next 3">
            <a:hlinkClick r:id="" action="ppaction://hlinkshowjump?jump=nextslide"/>
          </p:cNvPr>
          <p:cNvSpPr/>
          <p:nvPr/>
        </p:nvSpPr>
        <p:spPr>
          <a:xfrm>
            <a:off x="6400800" y="57913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07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program was created by K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rd Drive- is a storage device that stores basic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- it sends instructions of programs to the scr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21957" y="10800"/>
                </a:lnTo>
                <a:lnTo>
                  <a:pt x="794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761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tical Drive- a type of storage device, but it uses light to store and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wer Supply- electric circuit that change to make the computer able to come 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deo Card- displays 2d and 3d imag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 stands for Central Processing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Action Button: Forward or Next 3">
            <a:hlinkClick r:id="" action="ppaction://hlinkshowjump?jump=nextslide"/>
          </p:cNvPr>
          <p:cNvSpPr/>
          <p:nvPr/>
        </p:nvSpPr>
        <p:spPr>
          <a:xfrm>
            <a:off x="69343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me Addiction occurs when virtual life becomes more appealing than real life because a pers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different than they are in real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02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MORPG stand for Massively Multiplayer  Online Role-playing Ga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e of the biggest MMORPGs in the world is WOW or World of Warcra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Action Button: Forward or Next 5">
            <a:hlinkClick r:id="" action="ppaction://hlinkshowjump?jump=nextslide"/>
          </p:cNvPr>
          <p:cNvSpPr/>
          <p:nvPr/>
        </p:nvSpPr>
        <p:spPr>
          <a:xfrm>
            <a:off x="67057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15:39Z</dcterms:created>
  <dc:creator>bcpss</dc:creator>
  <dc:description/>
  <dc:language>en-US</dc:language>
  <cp:lastModifiedBy>Evan Singleton</cp:lastModifiedBy>
  <dcterms:modified xsi:type="dcterms:W3CDTF">2010-11-08T18:59:51Z</dcterms:modified>
  <cp:revision>101</cp:revision>
  <dc:subject/>
  <dc:title>Topic 1</dc:title>
</cp:coreProperties>
</file>